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9A55287-E635-4045-8F35-E46A0A8E977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45DAB28-7316-4AB7-8358-E91FFF4F2A4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383B2BAE-5789-450E-A89E-00C2F09D972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448863F-F89C-42EA-B960-BBEF199D565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669C03F-EF67-4F93-BDCA-179786E1CF3F}"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6D0DA67-6E88-4456-87BC-1BA36243F3E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59A9CA1-72CB-4018-8819-E7A86D54A78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88F6332-E7CF-4E04-ABDB-5FA8D7E315D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EA629640-9031-469C-A076-5592CE436CE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0C0AA6-F4BE-469B-B233-195217656CE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C5E24C1-0C52-4FBF-83D1-589B37CF52F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85D857F-4D88-47B1-82F3-9D28A8006FF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16CACAD-4F72-4BEE-9F65-5460DF3F051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2ED71ECD-EE93-4E9B-A7A6-58103343C29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31FEF7B-2984-42D7-968B-858C1474A54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258594E7-8510-4135-9CBD-6FC6CD06989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D1DBDD5-BEB1-4DF1-909E-2FC22D2FF86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A476005-0DF5-4797-9203-2EA1256FB88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13B3BC-B723-470E-86A0-CB2E0373B5B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8BB8BC-6B9F-4473-93C5-B93290CF86E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B11112F-149A-4D3A-802B-A74C762768A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8E29378-65AA-4C0E-BFE9-96BC6223594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6700CA-D680-4AAD-A7DC-02BE57E2C0D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1AF03D-1356-4D9C-9A00-FD3A27966E1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6098389-316D-48C1-AC56-E6C2DF2A006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2440C54-40FC-4090-990C-8AA290D4FD4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A532A6-09D1-47FB-A624-2C74D35787F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6EF5839-B53B-4ED3-AA1E-4B8D37237CF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B61AE89-ABB0-4BA6-AD0C-CEAF633BE73F}"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CF6144A-5308-4D19-B20B-5CD8BD0BE52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E3584EA3-DC1C-4978-BACC-E22FEB738B9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49D24-4F9E-4E8D-8955-9B82C7B63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33A8-F089-4027-AEA9-74AB8BC31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8F564-98FC-4BC9-8690-AA3FB9C3A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45F40-8E92-4A09-AB4D-8DC264A2D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5B5FC-3D7A-4DAE-B5D4-0E017FD2D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51AED-FA28-409E-8D5E-2B2AF8F7D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932F-EB13-436E-B806-CE375B82B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73C72-7884-4819-9D15-5DF1FA94A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DB930-5099-4E0A-A47D-385DD1656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C53E4-49EA-486B-8C21-F480DADC0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20A35-D513-4822-9CDD-E32BF9566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779F-5001-4486-856A-7B2A929EE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8B15C-3934-4F4E-B851-352C2A3E3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88BD1-0AA5-40F4-95E8-EAE3F1D56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AE7AF-F865-46F5-A389-DC9396267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B95E1-B527-4D29-8700-E906FA16A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CF191-FF1A-4740-8762-EE5898BBD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7362-F4E0-4A15-9980-A3A5962F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ED6FF-775E-416A-9194-724E2FFA9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F7736-D86A-4C70-8857-9B6E3B24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E340-E858-4609-BB36-F79FD2A3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FF67-CA40-4C40-B64D-736A76AC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3B06-D4A2-469E-B2D5-AF4C2F454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096B-493C-4E8D-A2EA-52A6E1AB0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DFA2BED-8FAC-43B0-A04A-6048CEB73077}" type="datetime">
              <a:rPr b="0" lang="zh-TW" sz="1400" spc="-1" strike="noStrike">
                <a:solidFill>
                  <a:srgbClr val="000000"/>
                </a:solidFill>
                <a:latin typeface="Arial"/>
              </a:rPr>
              <a:t>115/07/31</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20B1F7C-0E46-4497-B79E-0D8044328C52}"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D9E5F1C-B10D-41C4-BEB8-099E14BFDA1B}" type="datetime">
              <a:rPr b="0" lang="zh-TW" sz="1400" spc="-1" strike="noStrike">
                <a:solidFill>
                  <a:srgbClr val="000000"/>
                </a:solidFill>
                <a:latin typeface="Arial"/>
              </a:rPr>
              <a:t>115/0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10DC2ED-A0FD-4FED-BC8D-1B3968751B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AE48DF1-C34C-4C3F-ACEB-3516B64B97C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C2B7FA0-BF09-45CB-9917-B66AB2E35A0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DF964-0C4C-4795-9E8C-1B7647AC8E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21F1CD1-D219-4FBE-A511-99A9347952C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3FA78FE-30B6-4298-8BD6-1D7A612E754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E4A1E0-C0D3-475D-98CA-2EF4D34014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8E0A93-48F9-4215-A563-D4BBD5A873F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D1DB7F-E38D-46CE-B494-DA564E88C92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DEA68B6-B9E6-4075-848F-F8B6DEC310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D19C87-6656-4A7D-836C-CB6273A7CBC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3503BED-FF90-429A-A6D7-2DCD5025C0E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07E7B56-E459-4572-94BE-3A6EBD62BFC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26E2D9-BD97-4D74-8332-409A91341621}" type="datetime">
              <a:rPr b="0" lang="zh-TW" sz="1400" spc="-1" strike="noStrike">
                <a:solidFill>
                  <a:srgbClr val="000000"/>
                </a:solidFill>
                <a:latin typeface="Arial"/>
                <a:ea typeface="新細明體"/>
              </a:rPr>
              <a:t>115/07/31</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E197D05-3024-4B8D-AEDB-B1DF0A9CE94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9B318F5-E762-467C-8602-8BADE28A896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F0C0790-288B-4CD5-B2A8-C5ECE71E82F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BC5A2F-5425-4C12-84CF-6BC142AC9CA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89563F1-0DFB-462F-BCF0-A35C7E8C3D8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736CD05-D1CB-4E44-AF7F-E6F36C4A734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267786-BA33-474F-98DD-1BA386C01CE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FB46553-9C75-4F52-BB8E-888E808976D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B32D99-004F-4F30-B0E8-4C4BCC44B31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040806-1B72-455D-8B87-B4E72CE26BB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1BA233-A2DB-4457-9419-5FDAA9BE03F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3416E-6C50-4E7C-9F2F-230FF7115A7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10EEF9-7AF3-4254-880E-63DA12204DD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23839E4-582B-4B00-8122-CCBC351B9C6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1CBA2BC-441E-4004-B842-98BF70FEDFA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744C33A-B446-4AFD-AFE4-6C598667622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D95D98F-47EC-4FD0-BB82-E0D5FFB20C8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4F65471-AC23-4867-A3DC-20BD00A3E8E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9F5CC-A565-407B-AFA3-647A5A625C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49D57A3-3622-4E1E-BF03-41DADF0B2F8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58DC6-09DD-49CE-BDD1-002F8044A3C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DE7EAEB-5B5D-4D73-ABDC-62D0944005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BAABA-53CB-426D-B35B-20D37E5F4C9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31BE102-5E89-407E-8370-35FB86D12CC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42379-BDE0-4D96-9BD9-F36109816F1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B76391-F5F7-4824-8922-EF3EDFE5B12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C5F255-0737-4862-B351-C4FBF0F088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E6161-1696-4949-BE7C-59208B88667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2095DC-6077-44EF-9699-6CFAF0D743F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A94E3B-0B6C-46F3-9106-E71031F3C15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1254C-CD9D-4048-B7E4-AB28E2AD88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67AF0F-1A70-4C9F-ACFD-DC6B3248C68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FB53C95-8205-46C4-8E51-72371550910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37DBB1C-0955-4259-8831-2E8BA78D567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7C1E5-C018-4C80-B6E7-A9D0F563A7E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FCCD61-9FB6-46A7-9EE8-E4446948DEC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9E43249-27F3-49D0-B6A2-188BFA104A5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153B5-0D61-4062-9C4D-8EDA5CEEB7D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0AE10E-8D53-43B4-A02F-03229F2BE9F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7A91B1-DE6C-40D1-88F0-DCCA72FA770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B8A2167-A350-4802-8972-9E77083CF63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D10EF0-C1F1-4298-A778-C2E73D237D5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E8BFA0D-450C-4B11-9A91-05507FB05C3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E1AAA32-E466-4312-9970-86EE03D1D3B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A557DDF-865E-44CF-9FD3-31DD130D0AA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7457E60-9BDC-4A54-B94A-C5AF8D37A2D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8798492-3556-4419-9025-8F1A945BB26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9F46D9-1E8A-436E-9D4E-9699DB163E1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A6C7561-2610-4BCC-B622-1B253B460C9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0F65E5-BDF9-4CE7-8124-9B38D7CD797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E6B26C2-DD96-4162-853B-33DE2EC781A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CC82CD8-7450-49B2-BD52-A96E1D419F1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05B7D8-3521-4EF6-8720-AD1535D33EE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177F60-36FE-4D7A-B8FE-A9F01E0E044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098CC5-14CF-4C6D-8054-7B5BEF60DEB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D69756-85BF-413C-ADF6-26D445161D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01DB698-4884-402C-9147-E823AB4A6E6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A8495-7728-4A16-940A-3720B597920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5592CEA-ACCF-4316-A9E9-79DDE02F031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9FD85-4451-4A10-8745-FF67C22C2A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7CE4DD-1CF3-4BF4-8616-34AB64501D1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643CCD1-AA77-4BBD-8C58-AFF956F5E04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0007D28-7FB0-4D53-B9A9-45CFB4022CA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CDF2726-C017-40AE-9C81-EA11BB3652E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BC64AEB-EC43-40EC-B993-A22953D3D32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F821D14-203C-456F-A160-AF8F2F8BC5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1883EE-DD01-4677-A6E0-0F418F8306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5AC7EE-6867-4041-9824-B6F38D6E763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6621DE-2996-48C9-8291-077F1869266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19CD61-29A3-46A2-BAC2-94789071BD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DD6FE9-15DF-4129-8DFC-F31526F2F27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FC93E94-CBD9-4B78-A72A-99261BA5F0E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4E1E06-C301-4830-91FB-BF383C9CA3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C51508-5F73-4B00-A746-4C2AA8C43D6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12BBDE-7FD3-4C6F-8958-E1DC57E4E19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FBEB879-DC17-4955-BF80-9B7E20878E7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67588A9-3056-4427-9C59-7ABD81AB524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F227152-6F52-4460-A871-A5616FB8AA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3FC7BF-12AA-4E24-B6FF-77CC850BDA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079A14A-47EE-42B2-8A6F-E9BF41D3403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EE3945-647C-43E6-A420-020F93CB78F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D60F042-1CE0-415E-B22E-045797BC029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C6FBF48-822E-41D6-ACC6-C4551B1A95F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32FA329-6F2D-4223-8977-E630C248B5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E5F9B34-EE3B-409B-84A3-DF57C709C8E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A3E0D62-58E9-4EEB-B1A2-516C0B678DC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7172E5-A9D3-45B5-9347-A158C8D0EF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C1AAEB-D38D-430A-960A-F21E7346D9E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7A0FC58-2569-4A70-B137-C0D1EBE08F7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DBA3A25-2B35-40ED-A915-7B89560A891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236E74C-3C04-474E-AFDA-3831BE313D4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C72D089-DCC4-42D2-8153-1D82CC0133F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5A3E90C-B6BC-4610-8F46-0BC279504DF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21E2AAD-2215-4B48-B8C6-6EB9D6A6545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27605FD-8454-4169-AD7D-C575743A8D3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511DF21-945A-4343-A733-40A8932760E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2520C6E-F9F9-48ED-9447-A02B5EB837B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3266FB-C9F4-4594-99C0-16249380561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102722B-352F-4831-93B4-CD792EBF8AA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CC3862-8686-4635-A562-5AE69AA87F5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676E7B-958C-4B0A-BAC4-135B3F6174D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F839A9D-3FBA-40CE-A699-C18A530E9ED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57D18-8A6D-4E7D-BA46-2C26B24D3156}"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5B94A9-41EE-4DEA-8B8F-4B0298E0D68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A93AAA-B04B-42AA-AD66-CD5ECD8AC01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BC19C93-915C-4E2C-9092-8B1705A57F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85BB92-68A9-466E-94D7-CC6CE2859BA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F73E23E-ADD3-471D-A686-2FD4DCF687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1841A40-C5CB-4D13-B11B-FFA0184653C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CF07ED-913C-4B22-8C6F-CF64FEAB476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C43434-47F2-4F25-9F8F-C6F418C415D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9AD4D4C-49FA-4C8C-8C60-96740471CDE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B369F68-8E76-4A31-B29A-29901F3C7F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4634753-0AC6-4701-B599-742FF2BE799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7A2078E-8804-462C-82FC-7005E3EE322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AAA8F5E-6F7E-4FE8-9BB8-7DD5E73C13C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45B8803-FF08-442B-80D5-C74D23B282E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3117CB-675D-4DCA-BF48-CFE8B13F495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634CC59-CFF0-47E6-856C-7BEB4717825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757EF93-A2D7-49AC-AB3E-08815E646B8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CF0E04-6993-488F-BA73-92CD2989588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A0A2D1-2350-4E65-B71D-C8E48F46F13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495B3AD-889C-412F-A865-BAE40271A85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566A7C8-ECEF-4A2B-837F-132EBE60AB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FCE420-CEC9-4B74-A7F7-A5CE366A8EA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C4A7618-40D1-4B3C-9A00-A9805B899CD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F90404-3264-468D-840E-19D605FCAC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ECFDB99-C19D-4CC9-9CBF-8CAF8F8FC57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7081814-D2F0-4920-AED3-3C35E82439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6329A2C-E300-498C-8E4B-DD3C8D20EE6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52DA37-9757-4F14-A955-25CB3BCBA1F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3198DF6-1B41-4DA1-8079-65A2199E4B6F}"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E07B6E0-E423-4608-B0CB-C973EAC52AE1}"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6EBBEF-4645-4BEC-B949-095F041CC64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0CB9737-1856-4A6D-BC3A-9D2B1C7C52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F911D96-D3D7-4393-AA91-6978CE6AA1C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035179C-650D-4073-AC50-57637AD91762}"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1316167-7F92-4A11-9417-BBD91E2CC8A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E0682D-F80B-42CC-B203-02E8318C5D5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91C12A4-FEC5-4863-9B02-F4C853686B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53D345-7455-4FE7-A5A1-AE9DC33AD4B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60FE50-A228-46EA-8D12-F87E3EE29E7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95833-4D51-454E-9746-4EF15F3E136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